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10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1.wmf" ContentType="image/x-wmf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CFC-FB43-41CD-8AAC-B46BF5AF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580-34C7-4F21-B828-50865D48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14C-17C6-44CE-A429-05CA7F13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653-0707-448A-B462-16EB88EF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FC2-5AE2-432C-8AA4-19819CE6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A19-036A-4184-AEA9-1F936650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D66-63F6-4950-9FEC-D5978FD2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251-3519-4070-9DE7-E7E1F837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1FB-72E9-4A55-9317-F03DD3DB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EF3-2343-4BE3-B568-8F89E18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7EF-656A-48A0-9D67-B0124FC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98F-62F1-4A4D-AA8E-B2BEDC1E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EA64-D8AA-46F7-803B-AA88572A1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6920" y="220968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ncaabkb_c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1500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166920" y="2133720"/>
          <a:ext cx="2633760" cy="517320"/>
        </p:xfrm>
        <a:graphic>
          <a:graphicData uri="http://schemas.openxmlformats.org/drawingml/2006/table">
            <a:tbl>
              <a:tblPr/>
              <a:tblGrid>
                <a:gridCol w="2633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ng and Scheduling the NCAA Men’s Basketball Tourn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al Agraw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ve Har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epika Kand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ve Lew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y Shan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ve Si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Tourney Wins: Schoo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ke Blue Dev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095880" cy="368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62720" y="2971800"/>
            <a:ext cx="4572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st School: Duke Blue Devi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st Conference: AC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Likely to Win Tournament: #1 Se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800600" y="28195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8 and #9 seeds win more often than #5, #6, and #7 seeds.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3733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638680" y="380988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st Upset Pick: 12 Over 5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28954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of last 13 actual NCAA tournaments have had at least one 12-over-5 up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arly 50% Upset Rate in Rounds 4-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duling 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top 32 teams from the simulation in a “Super Tourna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sum of all scheduling values, including penalties for viola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teams in each of the fou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two teams from the same conference p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s from the same school could not be assigned to the sam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DICK VITALE"/>
          <p:cNvPicPr/>
          <p:nvPr/>
        </p:nvPicPr>
        <p:blipFill>
          <a:blip r:embed="rId1"/>
          <a:stretch/>
        </p:blipFill>
        <p:spPr>
          <a:xfrm>
            <a:off x="609480" y="2590920"/>
            <a:ext cx="257832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29000" y="1752480"/>
            <a:ext cx="2514600" cy="1447920"/>
          </a:xfrm>
          <a:prstGeom prst="wedgeRoundRectCallout">
            <a:avLst>
              <a:gd name="adj1" fmla="val -42615"/>
              <a:gd name="adj2" fmla="val 938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Awesome Baby with a capital 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Dick Vitale think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our presen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15000" y="2209680"/>
            <a:ext cx="3048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Produc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yal Agraw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eve Har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epika Kand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ave Lew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y Shan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eve Si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Direct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avid Ju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Special Guest Appea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ck V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5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5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15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5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5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5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5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5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5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5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5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remove" presetClass="exit" presetID="28" repeatCount="10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5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ation Age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CAA Basketball Tourn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referred to as “March Mad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-team single-elimination tourna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include conference winners and best (at-large) teams in NCAA Divisio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in office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Rele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e long-term probabilities of certain one-time events taking place, given their inherent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scheduling procedures that are subject to relevant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off your knowledge in future office pools and (hopefully) be the envy of fellow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best college basketball team, school, and conference over the last fou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how different seeds fare in the tourn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upset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rystal Ball to determine winners in each round, using Sagarin ratings as proxy for individual team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irst four rounds, teams can only play other teams in their respective years (“Sweet 16” guaranteed to have four teams from each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 outcome is determined by randomly generated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Method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ed Jeff Sagarin’s season-ending rankings for the 1999-2002 tournament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cheduled a 256-team tournament using Crystal Ball, keeping seeds i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for Crystal Ball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is equal to the difference in Sagarin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of game scores is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 it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288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Tourney Wins: Te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99 UCONN HUSK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722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st Single Team: 1999 UConn Husk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24:21Z</dcterms:created>
  <dc:creator>Stern School</dc:creator>
  <dc:description/>
  <dc:language>en-US</dc:language>
  <cp:lastModifiedBy>Stern School of Business New </cp:lastModifiedBy>
  <dcterms:modified xsi:type="dcterms:W3CDTF">2002-12-12T17:23:06Z</dcterms:modified>
  <cp:revision>32</cp:revision>
  <dc:subject/>
  <dc:title>Slide 1</dc:title>
</cp:coreProperties>
</file>